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60CD3-CA8B-40A3-9D4D-3FACF6C71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B2681-9C60-457F-B8C6-17A08826C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C1123-6C3A-48D9-A0D9-F2BE0AA19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89952-1AEF-4F56-A458-4B708ED0C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98DD4-DD4D-4282-980E-2133ED945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788B1-78CB-468F-9B16-34475060D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3BDFD-DE6A-46BB-8A9A-EB76ADBD1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1DD7B-E870-49D8-956B-6E91C408B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45DB0-5046-415B-9D90-C15D12803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0B679-3A07-47CD-A1C6-C27B7E2D1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F006A-9615-42AA-B8B9-FE54970C3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95405-973C-402A-B49D-D75ECB26C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A3AA7-E582-4956-84E1-2615F5400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05D63-50B7-45B2-8F76-D176BFD24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FCA15-7548-4C55-A334-E246DA7B8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95212-0E28-49B5-8522-10D12480D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AA5A5-A657-4EA8-A43F-9E5678E83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3B0E9E0-6163-4966-A88C-800A41EF4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25DDFB2-56A2-4427-A85F-C3D0FE6AC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DF60266-3DAA-4839-9228-7488D5B16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C771461-A88B-4316-956C-ECC6DB50D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4D77E48-1CA2-4562-BC03-27AF7F049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3187A-2E75-49A6-B59C-2FEB61ADD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B129B0F-F705-43BA-91A3-73B83A1CD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06F93D1-2ADE-4C60-90AC-2A107DC87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85D4524-D680-42C5-A282-52F192BAD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EB3C4C5-2E56-4868-90DB-0DF9F7AA0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D8294E2-E96A-4236-A4F3-6EF0AEEF6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338BE30-2B50-41C6-AACB-01C53AB6C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34727C7-40A7-497E-A235-C3F050846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3E394A-6457-4F7F-97AA-9B72F5D68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77DEE0-5210-4505-8EE2-BF776B2B2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CC9271-53C6-407F-814E-84C393F18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0225C-E2F5-457A-8AEE-411B1156D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37B736-82AF-45CF-AF30-472CA493E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D5A26E-E03C-49FD-9ACF-8FD4986D0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64C1C1-603B-4F75-BBAF-144976F4C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AD5E7A-204C-4379-820F-AAB5CACA3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D6B899-B5B2-4595-9DEF-BB2A6681A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F30EA3-02A6-4C35-9A07-878E2BE1D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6790D9-36B7-4870-B747-BDCF6A0FD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4D58C7-BE20-4690-B606-A77EAC0BF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880F38-5EE1-46B7-9934-AB8D31224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C3588-51CF-4269-BFA7-C859D0C2A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1BE2D-FFA6-47E9-878D-04C20127A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A239F-A432-495C-B86B-BDA3D7289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FBAA5-7977-4054-84E0-904C540AD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10E44-2928-46DC-B0BB-E235ED57B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62B87-40C0-4B0C-AC7B-F9E303B1E2E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C94EF-55FF-4905-ABA2-F3EB9A53F00E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5B24B-AF45-4AFB-BFA5-7CA4C5A79C8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10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11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12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7D8B4-E074-4E72-BE47-79FA8226BF51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1403280" y="6113520"/>
            <a:ext cx="6400800" cy="7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Автор: Гаврилец Иван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Text Box 5"/>
          <p:cNvSpPr/>
          <p:nvPr/>
        </p:nvSpPr>
        <p:spPr>
          <a:xfrm>
            <a:off x="1835280" y="568440"/>
            <a:ext cx="53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41837"/>
                </a:solidFill>
                <a:latin typeface="Impact"/>
              </a:rPr>
              <a:t>Тема учебного проекта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WordArt 11"/>
          <p:cNvSpPr txBox="1"/>
          <p:nvPr/>
        </p:nvSpPr>
        <p:spPr>
          <a:xfrm>
            <a:off x="1547640" y="2492280"/>
            <a:ext cx="6086520" cy="1695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Дроби вокруг нас</a:t>
            </a:r>
            <a:endParaRPr b="0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68" name="Text Box 7"/>
          <p:cNvSpPr/>
          <p:nvPr/>
        </p:nvSpPr>
        <p:spPr>
          <a:xfrm>
            <a:off x="3493800" y="4581360"/>
            <a:ext cx="173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5 класс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500040" y="549360"/>
            <a:ext cx="8229600" cy="494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8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ahoma"/>
              </a:rPr>
              <a:t>Может ли существовать математика без дробей?</a:t>
            </a:r>
            <a:r>
              <a:rPr b="1" lang="ru-RU" sz="41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8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41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Для чего нужны дроби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в математике??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Где они еще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используются??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0" name="Picture 5" descr="school19-07"/>
          <p:cNvPicPr/>
          <p:nvPr/>
        </p:nvPicPr>
        <p:blipFill>
          <a:blip r:embed="rId1"/>
          <a:stretch/>
        </p:blipFill>
        <p:spPr>
          <a:xfrm>
            <a:off x="4716360" y="2349360"/>
            <a:ext cx="3786120" cy="4005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0" y="2133360"/>
            <a:ext cx="657216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lvl="1" marL="942480" indent="-498960"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- Как возникли дроби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lvl="1" marL="942480" indent="-498960"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lvl="1" marL="942480" indent="-498960"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- Зачем нужны дроби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lvl="1" marL="942480" indent="-498960"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lvl="1" marL="942480" indent="-498960"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- Как умножать и делить десятичные дроби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2" name="Picture 7" descr="school10-09"/>
          <p:cNvPicPr/>
          <p:nvPr/>
        </p:nvPicPr>
        <p:blipFill>
          <a:blip r:embed="rId1"/>
          <a:stretch/>
        </p:blipFill>
        <p:spPr>
          <a:xfrm>
            <a:off x="6562800" y="1928880"/>
            <a:ext cx="2581200" cy="4295880"/>
          </a:xfrm>
          <a:prstGeom prst="rect">
            <a:avLst/>
          </a:prstGeom>
          <a:ln w="0">
            <a:noFill/>
          </a:ln>
        </p:spPr>
      </p:pic>
      <p:sp>
        <p:nvSpPr>
          <p:cNvPr id="173" name="Text Box 6"/>
          <p:cNvSpPr/>
          <p:nvPr/>
        </p:nvSpPr>
        <p:spPr>
          <a:xfrm>
            <a:off x="1336680" y="1125360"/>
            <a:ext cx="4188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Знаете ли вы??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8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8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8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8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ahoma"/>
              </a:rPr>
              <a:t>Ну начнем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ля начала необходимо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азделиться на равны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три команды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идумайте назва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оманд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6" name="Picture 6" descr="school02-21"/>
          <p:cNvPicPr/>
          <p:nvPr/>
        </p:nvPicPr>
        <p:blipFill>
          <a:blip r:embed="rId1"/>
          <a:stretch/>
        </p:blipFill>
        <p:spPr>
          <a:xfrm>
            <a:off x="5527800" y="1916280"/>
            <a:ext cx="3616200" cy="4384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394920" y="836640"/>
            <a:ext cx="727236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i="1" lang="ru-RU" sz="3200" spc="-1" strike="noStrike">
                <a:solidFill>
                  <a:srgbClr val="ffff00"/>
                </a:solidFill>
                <a:latin typeface="Tahoma"/>
              </a:rPr>
              <a:t>Как возникли дроби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 В каких  источниках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первые упоминается о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робях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 Дроби, какие они в Древнем Вавилоне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 Как относились к дробя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Древней Греции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ru-RU" sz="3000" spc="-1" strike="noStrike">
                <a:solidFill>
                  <a:srgbClr val="ffffff"/>
                </a:solidFill>
                <a:latin typeface="Tahoma"/>
              </a:rPr>
              <a:t>Где впервые стали записывать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Tahoma"/>
              </a:rPr>
              <a:t>дроби с помощью числителя и знаменателя?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8" name="Picture 6" descr="school02-28"/>
          <p:cNvPicPr/>
          <p:nvPr/>
        </p:nvPicPr>
        <p:blipFill>
          <a:blip r:embed="rId1"/>
          <a:stretch/>
        </p:blipFill>
        <p:spPr>
          <a:xfrm>
            <a:off x="6516720" y="1989000"/>
            <a:ext cx="2448000" cy="410400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6"/>
          <p:cNvSpPr/>
          <p:nvPr/>
        </p:nvSpPr>
        <p:spPr>
          <a:xfrm>
            <a:off x="3492360" y="189000"/>
            <a:ext cx="2256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41837"/>
                </a:solidFill>
                <a:latin typeface="Tahoma"/>
              </a:rPr>
              <a:t>I</a:t>
            </a:r>
            <a:r>
              <a:rPr b="0" lang="ru-RU" sz="3600" spc="-1" strike="noStrike">
                <a:solidFill>
                  <a:srgbClr val="f41837"/>
                </a:solidFill>
                <a:latin typeface="Tahoma"/>
              </a:rPr>
              <a:t> команд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611280" y="1484280"/>
            <a:ext cx="8229600" cy="36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00"/>
                </a:solidFill>
                <a:latin typeface="Tahoma"/>
              </a:rPr>
              <a:t>Зачем нужны дроби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- Люди каких професси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в своей деятельност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используют дроби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- Какие задачи на дроб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они решают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1" name="Picture 5" descr="school02-11"/>
          <p:cNvPicPr/>
          <p:nvPr/>
        </p:nvPicPr>
        <p:blipFill>
          <a:blip r:embed="rId1"/>
          <a:stretch/>
        </p:blipFill>
        <p:spPr>
          <a:xfrm>
            <a:off x="5796000" y="2492280"/>
            <a:ext cx="2448000" cy="331164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7"/>
          <p:cNvSpPr/>
          <p:nvPr/>
        </p:nvSpPr>
        <p:spPr>
          <a:xfrm>
            <a:off x="3492360" y="189000"/>
            <a:ext cx="244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41837"/>
                </a:solidFill>
                <a:latin typeface="Tahoma"/>
              </a:rPr>
              <a:t>II</a:t>
            </a:r>
            <a:r>
              <a:rPr b="0" lang="ru-RU" sz="3600" spc="-1" strike="noStrike">
                <a:solidFill>
                  <a:srgbClr val="f41837"/>
                </a:solidFill>
                <a:latin typeface="Tahoma"/>
              </a:rPr>
              <a:t> команд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00"/>
                </a:solidFill>
                <a:latin typeface="Tahoma"/>
              </a:rPr>
              <a:t>Как выполнить действие с дробями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1" lang="ru-RU" sz="2800" spc="-1" strike="noStrike">
                <a:solidFill>
                  <a:srgbClr val="002060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Как умножить дроби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- Как делить дроби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4" name="Picture 5" descr="school19-07"/>
          <p:cNvPicPr/>
          <p:nvPr/>
        </p:nvPicPr>
        <p:blipFill>
          <a:blip r:embed="rId1"/>
          <a:stretch/>
        </p:blipFill>
        <p:spPr>
          <a:xfrm>
            <a:off x="5357880" y="2637000"/>
            <a:ext cx="3786120" cy="4005000"/>
          </a:xfrm>
          <a:prstGeom prst="rect">
            <a:avLst/>
          </a:prstGeom>
          <a:ln w="0">
            <a:noFill/>
          </a:ln>
        </p:spPr>
      </p:pic>
      <p:sp>
        <p:nvSpPr>
          <p:cNvPr id="185" name="Text Box 6"/>
          <p:cNvSpPr/>
          <p:nvPr/>
        </p:nvSpPr>
        <p:spPr>
          <a:xfrm>
            <a:off x="3492360" y="189000"/>
            <a:ext cx="266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41837"/>
                </a:solidFill>
                <a:latin typeface="Tahoma"/>
              </a:rPr>
              <a:t>III</a:t>
            </a:r>
            <a:r>
              <a:rPr b="0" lang="ru-RU" sz="3600" spc="-1" strike="noStrike">
                <a:solidFill>
                  <a:srgbClr val="f41837"/>
                </a:solidFill>
                <a:latin typeface="Tahoma"/>
              </a:rPr>
              <a:t> команд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34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3700" spc="-1" strike="noStrike">
                <a:solidFill>
                  <a:srgbClr val="ffff00"/>
                </a:solidFill>
                <a:latin typeface="Arial"/>
              </a:rPr>
              <a:t>Желаю Удачи!</a:t>
            </a:r>
            <a:endParaRPr b="0" lang="en-US" sz="137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2T14:16:59Z</dcterms:created>
  <dc:creator>Admin</dc:creator>
  <dc:description/>
  <dc:language>en-US</dc:language>
  <cp:lastModifiedBy>25009</cp:lastModifiedBy>
  <dcterms:modified xsi:type="dcterms:W3CDTF">2010-06-07T10:52:47Z</dcterms:modified>
  <cp:revision>34</cp:revision>
  <dc:subject/>
  <dc:title>Главное не в том как накопить больше знаний,- главное в том, чтобы это знание, великое или малое, принадлежало тебе, явилось бы детищем твоих собственных усилий. Р. Роллан</dc:title>
</cp:coreProperties>
</file>